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264-76C5-44D0-A236-68640AEC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8F5-BC96-468B-9DD0-8943DA9F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8CA-C45D-4927-8FFD-6A7AD1A7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83D-859D-41D5-912E-70EEE8FF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89E5-8F8C-4A9A-B6D4-775A093A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74FF-70A5-4EA2-AB6F-61EB0CF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8451-7922-4E6D-891F-2207649A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52AF-1FA5-4052-9A20-2FB19129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5820-5E0A-4BBD-AB40-D815AF7C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6436-0AA7-4E01-80A5-0CCEB08C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0E8D-42B2-4051-B142-F727B66A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56B-D6BA-42C2-AFFC-333519A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6B7-BEEF-4ADA-ABD1-98311C9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DE8E-7F31-41B5-A872-EDFD83F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602-1382-434C-801C-5E226C29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0DC4-0C76-473E-9377-F8A846E4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008-C3E6-4A56-9B30-9D9F8FA1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ED6-F146-49E0-9BB0-157B7F74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B66-B12A-4A43-9C76-9D3D0C6B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1B2-1D76-4CFD-8DDD-C5A557E8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EDF-ADEB-4424-8B2B-D58F074D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3EF-3590-4C77-908E-C2F674D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608-8CE4-49F9-81A8-FF4240CB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F14-AD12-474C-B86A-FAACD47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3608-100D-4EE4-B57A-3FE5F98750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12E6-D2FA-41F9-8BCF-71DDC96E77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330033"/>
                </a:solidFill>
                <a:latin typeface="Times New Roman"/>
              </a:rPr>
              <a:t>Polish Pension Syste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Main features after recent reform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iga, 18 Decem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 – pension amou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nsion calculated in the old-scheme amount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. 24% of the base amount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. 1.3% of the assessment basis for each contributory year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. 0.7% of the assessment basis for each non-contributory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 amount equals 100% of average wage from the preceding year, fixed annually 1 M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Common pension system in Poland – new schem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First pillar – Z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a public body –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compulso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current contribu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95760" y="2124000"/>
            <a:ext cx="409104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Second pillar – OF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ist of Open Pension Funds – OF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private institutions – General Pension Societies (PT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volunt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gathered fun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62600" y="1413000"/>
            <a:ext cx="370368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Third Pillar – private initiati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Occupational Pension Programmes (PPEs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Individual Retirement Accounts (IK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Individual Pension Security Accounts (IKZ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private institutions (usually insurance compani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volunt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gathered f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New scheme - choice of insur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rsons born between 1949 and 1969 could choose whether they wanted to join II pillar or n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rsons born after 1969 had an obligation to transfer part of their contribution to II pill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rom 2014 all members of OFEs have choice whether they want to continue saving in I and II pillar or just in the I pil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New scheme – entitlement and amou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Entitlement is acquired after reaching the statutory retirement age (from the 2013 reform – up to 67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The proper contributory and non-contributory period is required only in the case of increasing the pension up to the level of the guaranteed minimum pensio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The amount of the old-age pension received from the new scheme is the sum of collected and indexed contributions and the indexed initial capital divided by the average life expectancy expressed in mont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nsion insurance contribution equalls 19,52% of basic sal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 the old scheme contribution is transferred directly to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 the new scheme contribution is divided and transfer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mpletely to ZU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ally to ZUS and OF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 – new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f a person chose to save only in Z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1640" y="2492280"/>
            <a:ext cx="8208000" cy="3556080"/>
            <a:chOff x="431640" y="2492280"/>
            <a:chExt cx="8208000" cy="3556080"/>
          </a:xfrm>
        </p:grpSpPr>
        <p:cxnSp>
          <p:nvCxnSpPr>
            <p:cNvPr id="137" name="_s59405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284800" y="3164760"/>
              <a:ext cx="711720" cy="2210040"/>
            </a:xfrm>
            <a:prstGeom prst="bentConnector3">
              <a:avLst>
                <a:gd name="adj1" fmla="val 15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9404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3075120" y="3164400"/>
              <a:ext cx="711720" cy="2210760"/>
            </a:xfrm>
            <a:prstGeom prst="bentConnector3">
              <a:avLst>
                <a:gd name="adj1" fmla="val 15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9400"/>
            <p:cNvSpPr/>
            <p:nvPr/>
          </p:nvSpPr>
          <p:spPr>
            <a:xfrm>
              <a:off x="2642040" y="249228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700" spc="-1" strike="noStrike">
                  <a:solidFill>
                    <a:srgbClr val="000000"/>
                  </a:solidFill>
                  <a:latin typeface="Arial"/>
                </a:rPr>
                <a:t>Contribution: 19,52%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9401"/>
            <p:cNvSpPr/>
            <p:nvPr/>
          </p:nvSpPr>
          <p:spPr>
            <a:xfrm>
              <a:off x="431640" y="462600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700" spc="-1" strike="noStrike">
                  <a:solidFill>
                    <a:srgbClr val="000000"/>
                  </a:solidFill>
                  <a:latin typeface="Arial"/>
                </a:rPr>
                <a:t>ZUS account: 12,22%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59402"/>
            <p:cNvSpPr/>
            <p:nvPr/>
          </p:nvSpPr>
          <p:spPr>
            <a:xfrm>
              <a:off x="4851360" y="462600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ZUS sub-account:7,3%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 – new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f a person chose to save in ZUS and OF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22320" y="2206800"/>
            <a:ext cx="7755840" cy="3778560"/>
            <a:chOff x="922320" y="2206800"/>
            <a:chExt cx="7755840" cy="3778560"/>
          </a:xfrm>
        </p:grpSpPr>
        <p:cxnSp>
          <p:nvCxnSpPr>
            <p:cNvPr id="145" name="_s63501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779080" y="2737800"/>
              <a:ext cx="756360" cy="271512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63500"/>
            <p:cNvCxnSpPr>
              <a:stCxn id="149" idx="0"/>
              <a:endCxn id="147" idx="2"/>
            </p:cNvCxnSpPr>
            <p:nvPr/>
          </p:nvCxnSpPr>
          <p:spPr>
            <a:xfrm flipV="1">
              <a:off x="4800240" y="3717360"/>
              <a:ext cx="360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63499"/>
            <p:cNvCxnSpPr>
              <a:stCxn id="151" idx="0"/>
              <a:endCxn id="147" idx="2"/>
            </p:cNvCxnSpPr>
            <p:nvPr/>
          </p:nvCxnSpPr>
          <p:spPr>
            <a:xfrm flipH="1" flipV="1" rot="5400000">
              <a:off x="3064680" y="2738160"/>
              <a:ext cx="756360" cy="271512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63495"/>
            <p:cNvSpPr/>
            <p:nvPr/>
          </p:nvSpPr>
          <p:spPr>
            <a:xfrm>
              <a:off x="3636720" y="220680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ontribution: 19,5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63496"/>
            <p:cNvSpPr/>
            <p:nvPr/>
          </p:nvSpPr>
          <p:spPr>
            <a:xfrm>
              <a:off x="92232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ZUS account: 12,2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63497"/>
            <p:cNvSpPr/>
            <p:nvPr/>
          </p:nvSpPr>
          <p:spPr>
            <a:xfrm>
              <a:off x="363672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ZUS sub-account: 4,38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3498"/>
            <p:cNvSpPr/>
            <p:nvPr/>
          </p:nvSpPr>
          <p:spPr>
            <a:xfrm>
              <a:off x="635148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OFE account: 2,9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ension Systems in Polan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highest number of insured in Poland is in the Universal Pension 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xceptions for some professional groups included in the Universal Pension System, e.g. miners, teachers, railways employees, etc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xclusions from the Universal Pension System, e.g.: uniformed services, farmers, etc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Bridging old-age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instrument of tackling the unemploy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result of the withdrawal of the earlier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cquired by only limited group of employees who performed work in special conditions or special character (e.g. miners, steel mills workers, divers, fisherme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Uniformed Service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Police, Armed Forces, State Fire Service, etc.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Legally based in the acts regulating functioning of the service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Maintained by special institutions, e.g. Ministry of Internal Affairs Pensions Institution (ZER MSW) or Military Pensions Bureaus (WB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1880" y="2516040"/>
            <a:ext cx="3814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Farmer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gally based in the Act of 20 December 1990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on social insurance of farmer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intained by the special institution – Agricultural Social Insurance Fund (K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27840" y="4154400"/>
            <a:ext cx="1793880" cy="1903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84960" y="1628640"/>
            <a:ext cx="29826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rosecutors and judge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egally based in the acts regulating functioning of the common courts, The Supreme Court and the prosecu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intained by the Ministry’s of Justice Department of Human Resources (Retired Judges and Prosecutors Divis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60920" y="2206800"/>
            <a:ext cx="402588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centives for longer work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irect construction of the pension schemes: the longer you work – the more you will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ssibility of receiving pension and performing 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ather low amount of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ithdrawal of earlier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mitation of the access to the bridging p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Disincentives for longer work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longation of the retirement ag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ow salaries in the national econom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ifficulties on the labour mark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ack of confidence to state institu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iredness of lif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egally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3 October 199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the social insurance system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1442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7 December 199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pensions from the Social Insurance Fund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1440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21 November 200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funded old-age pension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4, text 1097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28 August 1997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organisation and operation of old-age pension fund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989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9 December 200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bridging old-age pension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08 No. 237, text 1656, as amende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 – statistic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ocial Insurance Institution pays benefits to       4.5 million of pensioners in Poland, but the number is decl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amount of pensions paid from the Social Insurance Fund (FUS) equalled approx.            10.2 billion of PLN (approx. 2.43 billion EU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average monthly pension delivered equalled 2050 PLN (approx. 485 E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 – index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nual indexation carried out from 1 Mar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d on fixed indexation rate (in 2014 – 101,6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dexation rate is established annually by the Tripartite Commission for Socio-Economic Issues or, if not agreed by the members of the Commission - by the regulation of the Council of Min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dex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in factor of the indexation rate – infaltion r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igher infation – higher index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ue to the low inflation rate in Poland, from 2015 there will be percentage indexation with guaranteed minimum increase of 36 PLN (approx. 8 EUR) for all benefits lower than 3333,33 PLN (approx. 788 E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– general inform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ld-age pension scheme was reformed in 199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old-age pension schemes operating parale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ld scheme - for persons born before                1 January 194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ew scheme - for persons born after               31 December 19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Pay-as-you-go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Vulnerable to demographic thr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1880" y="2540160"/>
            <a:ext cx="38149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itlement to pension is acquired af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) reaching the statutory retirement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0 years for wo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5 years for 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) completing contributory and non-contributory peri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0 years for wo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5 years for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09:55:30Z</dcterms:created>
  <dc:creator>Dominik Komorek</dc:creator>
  <dc:description/>
  <dc:language>en-US</dc:language>
  <cp:lastModifiedBy>Dominik Komorek</cp:lastModifiedBy>
  <dcterms:modified xsi:type="dcterms:W3CDTF">2014-12-12T07:26:48Z</dcterms:modified>
  <cp:revision>40</cp:revision>
  <dc:subject/>
  <dc:title>Polish Pension System</dc:title>
</cp:coreProperties>
</file>